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AAD-9D5D-4B03-9E3B-B6340151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AA6-286E-4924-A4DC-3F09837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038-BB05-4EAB-8759-FD9D61B1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EB5-0A6E-4B84-B204-EE47AF18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10C-C7A6-44D4-874F-F7D33D7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FFA-BA28-4254-9C46-AB2CC82C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5D6-3853-4DA2-8FF6-95860125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C1C-02AA-41D4-8C28-30B18C1A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7C5-9E8E-4C28-AC2A-2D70B3F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556-101D-41EC-8215-8E399AE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6FE-D348-4953-BE4E-F120CF5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F95-D44E-4DD6-B806-341F369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CDC-42EC-4641-AF9E-EB06016B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CAPABILITIES OF TH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hemical or Hi Temp convey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ercial conveyor dishmachine c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form thes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Pump and spray water over the dishrack area at a prescribed pres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Refill the water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Add detergent, sanitizer &amp; rinse-aid solutions according to dispenser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: Recover heat loss from spraying  w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: Pull racks along a straigh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: Shut down at the cycle’s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temperatures, foaming, spec on glasses, remaining soil, black spots, streaks on silver and glasses, and grease build-up will all be a result of foundation elements or procedure elemen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0:57:17Z</dcterms:created>
  <dc:creator>Bill Medici</dc:creator>
  <dc:description/>
  <dc:language>en-US</dc:language>
  <cp:lastModifiedBy>Bill Medici</cp:lastModifiedBy>
  <cp:lastPrinted>2003-10-20T21:20:18Z</cp:lastPrinted>
  <dcterms:modified xsi:type="dcterms:W3CDTF">2003-10-20T21:20:43Z</dcterms:modified>
  <cp:revision>2</cp:revision>
  <dc:subject/>
  <dc:title>FINITE CAPABILITIES OF THE MACHINE</dc:title>
</cp:coreProperties>
</file>